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993607-74B1-45D9-946D-B94C9C5C2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7AEB50-690E-4DD9-8D72-C74561431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brief notes througho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azon.com/Boy-Who-Harnessed-Wind-Electricity/dp/0061730327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illiamkamkwamba.typepad.com/williamkamkwamba/2008/03/bringing-an-olp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ffee.geek.nz/olpc-viewfinders-made-repra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makezine.com/archive/2009/10/olpc_ox_controls_reprap_prints_ox_p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sets/7215762245669364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n-disk.com/product_info.php/products_id/8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tedxmidatlantic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lickr.com/photos/curiouslee/397558753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417D-25B1-41D0-B60C-147E9CB49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26D7-0778-4205-993F-85E3B585F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2BFE-E520-49AD-ABC3-50022CB79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D8F1-B61F-415F-A14C-86467A85A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D93C8-06E2-41D7-B79D-023D7D74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3DBCD-A261-4026-8B76-668AFA47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6FEB9-D511-4E45-B5B7-63BF52CF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5337C-903F-4AD7-AB92-35763C8E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1EC66-5932-4B93-B0A9-34E7486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D4478-22B3-4FB2-B770-95EC3B87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C81A2-E422-498A-9302-1885C46C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0B99-1343-4C21-B227-A3F540E51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8D4AD-2EC7-4897-BE30-1F4D4E77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78523-84E7-47C1-83B6-97B3D916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17440-BCE8-46F0-9FC9-2A6D44EF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2641C-7ACE-42C5-B794-3F76A1A4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8EE3E-6EA7-47C1-B11D-45BE89E7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54BC-8270-42E1-9587-B9B6666BF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4EB1-10B5-400D-84E9-8C9C4DEF8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21E9-53D3-4CDB-B07A-BCA5319E1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C9DF-C561-4CD5-BB93-1DB0F5214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4EB2-EA6D-491B-A053-94B843202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95DD-C9B5-421F-A4AB-22978D2D7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D3AE-2954-4250-AB01-BBACEC6F8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" y="1066680"/>
            <a:ext cx="9143640" cy="5435640"/>
            <a:chOff x="360" y="106668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28440" y="1066680"/>
              <a:ext cx="9115560" cy="5435640"/>
              <a:chOff x="28440" y="106668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17600" y="141588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3440" y="141588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8440" y="134136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0880" y="146196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0240" y="120636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08720" y="106668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1080" y="118116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2640" y="133812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3480" y="286848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2760" y="516240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7480" y="110808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1320" y="530856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5960" y="345420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" y="3284280"/>
              <a:ext cx="2193840" cy="2694240"/>
              <a:chOff x="360" y="328428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5760" y="580788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49680" y="58028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6840" y="57952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29040" y="580932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5840" y="5817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38320" y="581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1880" y="5812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3120" y="57855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4160" y="57902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6640" y="57981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6240" y="58060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6120" y="5721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68600" y="572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0720" y="5752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3200" y="5756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1560" y="56156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3680" y="5644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57960" y="5661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09720" y="5682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5400" y="54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2560" y="55155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79720" y="554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5440" y="557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1600" y="5338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3440" y="53683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87800" y="53996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6400" y="5428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26840" y="51573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598040" y="5195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68160" y="52308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4680" y="5270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3280" y="4970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3120" y="50068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0800" y="5047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5880" y="5081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56880" y="4763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1400" y="48034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28800" y="48448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07560" y="4889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18800" y="4559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3320" y="46000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1880" y="46396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4240" y="46814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1760" y="4350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3200" y="4392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3200" y="4430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1760" y="447156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3040" y="4157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2040" y="41907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6720" y="4228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1400" y="4271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6080" y="39729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3360" y="401292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5960" y="4049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1800" y="408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4560" y="38163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4720" y="38433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88840" y="3878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09360" y="39052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6320" y="3673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39800" y="370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3560" y="3730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2360" y="37555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8240" y="371304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7760" y="462564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2880" y="463860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37480" y="35690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3840" y="358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1280" y="36079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2960" y="3627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48120" y="3494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0960" y="3507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6240" y="35179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6200" y="353736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27800" y="34470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1720" y="34560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19600" y="3463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67480" y="3470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5960" y="34448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3480" y="34419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1360" y="34369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0320" y="34390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0880" y="3475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08760" y="34675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0960" y="34614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0280" y="34531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4360" y="3545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3680" y="3529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19760" y="3513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0800" y="3496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5400" y="3690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99000" y="36385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3280" y="361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6120" y="359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5440" y="35766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-3240" y="4982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07120" y="516564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1480" y="408600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08080" y="417024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3560" y="585900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67680" y="585900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69160" y="582408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4760" y="57513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59840" y="56415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7000" y="549864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5360" y="53305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31680" y="362232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2400" y="35064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6320" y="33969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4280" y="339048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0360" y="343116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6640" y="35010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58800" y="36082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2800" y="374760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17640" y="39114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898280" y="409716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29960" y="4295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2040" y="451152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3800" y="494172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49160" y="514512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6040" y="462276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000" y="396540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0840" y="385272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1360" y="520380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88960" y="406080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2360" y="395604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920" y="57355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20" y="370044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20" y="574524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5160" y="472608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57200" y="343188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7440" y="531648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78480" y="528048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720" y="361800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6560" y="448092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1"/>
          </p:nvPr>
        </p:nvSpPr>
        <p:spPr>
          <a:xfrm>
            <a:off x="8000640" y="6400440"/>
            <a:ext cx="841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C359-B748-4873-9765-BDAC90ED1E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A71C-C42D-4A94-AD9C-C5216778968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ee@aarp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dmills, XO Reprap, Cambridge &amp; XtraOrdina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90360" y="49525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ke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llaudet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rday, October 17,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2954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olpc_lc_dc_logo_one_line" descr=""/>
          <p:cNvPicPr/>
          <p:nvPr/>
        </p:nvPicPr>
        <p:blipFill>
          <a:blip r:embed="rId1"/>
          <a:srcRect l="4687" t="28007" r="9376" b="32004"/>
          <a:stretch/>
        </p:blipFill>
        <p:spPr>
          <a:xfrm>
            <a:off x="1905120" y="0"/>
            <a:ext cx="53337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 more 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mail Mike Lee at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Arial"/>
                <a:hlinkClick r:id="rId1"/>
              </a:rPr>
              <a:t>curiouslee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614B-7BF9-4AD3-8854-98447E1FE7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avorite recent read: The Boy Who Harnessed The W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 Olliver’s Reprap controlled by an XO-1 to print viewfi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from Cam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Lab S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isk XtraOrdinary SD card for the XO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5616-ED52-4C6B-B277-CF432F14F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iam Kamkwamba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oy Who Harnessed The Wi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william_kamkwamba_500x_windguy" descr=""/>
          <p:cNvPicPr/>
          <p:nvPr/>
        </p:nvPicPr>
        <p:blipFill>
          <a:blip r:embed="rId1"/>
          <a:stretch/>
        </p:blipFill>
        <p:spPr>
          <a:xfrm>
            <a:off x="2519280" y="228600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398" name="william-kamkwamba-book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724120" cy="4114800"/>
          </a:xfrm>
          <a:prstGeom prst="rect">
            <a:avLst/>
          </a:prstGeom>
          <a:ln w="0">
            <a:noFill/>
          </a:ln>
        </p:spPr>
      </p:pic>
      <p:pic>
        <p:nvPicPr>
          <p:cNvPr id="399" name="william-kamkwamba-earlier-windmill" descr=""/>
          <p:cNvPicPr/>
          <p:nvPr/>
        </p:nvPicPr>
        <p:blipFill>
          <a:blip r:embed="rId3"/>
          <a:stretch/>
        </p:blipFill>
        <p:spPr>
          <a:xfrm>
            <a:off x="6629400" y="1657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400" name="meal_kamb" descr=""/>
          <p:cNvPicPr/>
          <p:nvPr/>
        </p:nvPicPr>
        <p:blipFill>
          <a:blip r:embed="rId4"/>
          <a:stretch/>
        </p:blipFill>
        <p:spPr>
          <a:xfrm>
            <a:off x="6629400" y="38862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AAEC-9C74-4318-B7A6-D0AFDEA93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liam’s Blo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2" name="william_kamkwamba_blog_olpc_xo" descr=""/>
          <p:cNvPicPr/>
          <p:nvPr/>
        </p:nvPicPr>
        <p:blipFill>
          <a:blip r:embed="rId1"/>
          <a:stretch/>
        </p:blipFill>
        <p:spPr>
          <a:xfrm>
            <a:off x="1424160" y="0"/>
            <a:ext cx="62956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34D1-C570-4FB3-980C-2CE0A79A82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Vic Olliver’s Reprap-made Viewfinder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4" name="vic_olliver_xo_viewfinders" descr=""/>
          <p:cNvPicPr/>
          <p:nvPr/>
        </p:nvPicPr>
        <p:blipFill>
          <a:blip r:embed="rId1"/>
          <a:srcRect l="7200" t="3198" r="2801" b="5601"/>
          <a:stretch/>
        </p:blipFill>
        <p:spPr>
          <a:xfrm>
            <a:off x="152280" y="1257480"/>
            <a:ext cx="5715000" cy="4343400"/>
          </a:xfrm>
          <a:prstGeom prst="rect">
            <a:avLst/>
          </a:prstGeom>
          <a:ln w="0">
            <a:noFill/>
          </a:ln>
        </p:spPr>
      </p:pic>
      <p:pic>
        <p:nvPicPr>
          <p:cNvPr id="405" name="reprap_olpc_viewfinder_video" descr=""/>
          <p:cNvPicPr/>
          <p:nvPr/>
        </p:nvPicPr>
        <p:blipFill>
          <a:blip r:embed="rId2"/>
          <a:stretch/>
        </p:blipFill>
        <p:spPr>
          <a:xfrm>
            <a:off x="5943600" y="4011480"/>
            <a:ext cx="3200400" cy="28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5ED2-AB2A-4305-A7E0-6C87666C21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s from Cambrid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218960"/>
            <a:ext cx="853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PCorps Students at 1CC last week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for jumpstart event in NYC mid-Nov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push to production of XO-1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t in Walter Bender’s of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 meld with Caroline M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DF1E-DF10-419B-8876-DA84A2A39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dia Lab Sigh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9" name="bernoulli_wing" descr=""/>
          <p:cNvPicPr/>
          <p:nvPr/>
        </p:nvPicPr>
        <p:blipFill>
          <a:blip r:embed="rId1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10" name="media_lab_extension" descr=""/>
          <p:cNvPicPr/>
          <p:nvPr/>
        </p:nvPicPr>
        <p:blipFill>
          <a:blip r:embed="rId2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B18E-1B80-40B9-B3C3-8C190FFE4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4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disk XtraOrdinary SD Card OS for the X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2" name="ondisk_XtraOrdinary_on_XO" descr=""/>
          <p:cNvPicPr/>
          <p:nvPr/>
        </p:nvPicPr>
        <p:blipFill>
          <a:blip r:embed="rId1"/>
          <a:stretch/>
        </p:blipFill>
        <p:spPr>
          <a:xfrm>
            <a:off x="0" y="915840"/>
            <a:ext cx="6781680" cy="5088240"/>
          </a:xfrm>
          <a:prstGeom prst="rect">
            <a:avLst/>
          </a:prstGeom>
          <a:ln w="0">
            <a:noFill/>
          </a:ln>
        </p:spPr>
      </p:pic>
      <p:pic>
        <p:nvPicPr>
          <p:cNvPr id="413" name="ondisk_sd_card" descr=""/>
          <p:cNvPicPr/>
          <p:nvPr/>
        </p:nvPicPr>
        <p:blipFill>
          <a:blip r:embed="rId2"/>
          <a:stretch/>
        </p:blipFill>
        <p:spPr>
          <a:xfrm>
            <a:off x="556272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C846-C71D-46DA-A42A-36EFEC9D8B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pcom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320" y="1447560"/>
            <a:ext cx="8613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s On After School, Fairfax VA, October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Dx Mid-Atlantic, November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PC NYC Event, Tentatively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OLPC Learning Club meeting, ACC, November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olpc_nyc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2422-8EB4-4213-B042-8FF57EF4D1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21:05:25Z</dcterms:created>
  <dc:creator>mik le</dc:creator>
  <dc:description/>
  <dc:language>en-US</dc:language>
  <cp:lastModifiedBy>Mike</cp:lastModifiedBy>
  <cp:lastPrinted>2005-01-24T07:03:34Z</cp:lastPrinted>
  <dcterms:modified xsi:type="dcterms:W3CDTF">2009-10-17T02:52:31Z</dcterms:modified>
  <cp:revision>164</cp:revision>
  <dc:subject/>
  <dc:title>Mapping the Current State of Web Sites</dc:title>
</cp:coreProperties>
</file>